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CD1-96E8-4ED3-9269-6670399F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39D3-4409-472D-8343-E7D140DA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BCD7-B402-4EE8-BB91-EDFBAA19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6B0F-E2FB-4F49-8D8C-3535600A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: http://bio1152.nicerweb.com/Locked/media/ch44/44_02HyperHypoosmotic-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er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er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s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a-z-animals.com/media/animals/images/470x370/sponge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7E63-0500-49D5-A297-94002EEF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jackofalltraining.com/wp-content/uploads/2012/05/eliminate-wast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5C5-694B-4C02-A909-44AE0935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ACFE-067C-498B-9C6D-484C7E8C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whealthadvisor.com/images/1HT00045/PART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FE7-ABCD-462B-AFC9-C79F36E5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(NH3) is highly 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DAC-2CC8-4106-8FBB-41EC1557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lintoncc.suny.edu/faculty/michael.gregory/files/bio%20102/bio%20102%20lectures/excretory%20system/excret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EF6-F9DD-40FA-B423-ABC79F19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B5D-F063-48F0-A4FC-0B92D1DA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3D7-7E0D-41F9-A3F0-90456E7E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581-B5EE-49E2-85C3-DEEEA15D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9F9-D8C7-4351-8FDE-D9E251BA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F7F-69FB-47A6-B7D6-4663CD8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5E8-CEEE-468D-B0B7-021FC76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201-A735-4049-9C82-BD44882A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11-6E73-4F46-A62B-51F0740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5CB-F5A2-46E0-B445-F2E2087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F69-2FF4-4C5C-8AB8-1B83E03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5C5-7910-4989-97F9-BB66DFBF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88B-3B85-4468-ABD1-95CD899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32D-A6ED-4D47-B43C-F82FAABE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tic press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essure resulting from a difference in solute concentration across a selectively permeabl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ctive regulation of the osmotic pressure of bodily fluids an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ith higher solute concentr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t movement once solution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osm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44_02HyperHypoosmotic-L.jpg"/>
          <p:cNvPicPr/>
          <p:nvPr/>
        </p:nvPicPr>
        <p:blipFill>
          <a:blip r:embed="rId1"/>
          <a:srcRect l="0" t="-15616" r="0" b="-1561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need to keep their intra- &amp; extracellular fluids isoosmo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ne animals are often isoosmotic to their extern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sponge4.jpg"/>
          <p:cNvPicPr/>
          <p:nvPr/>
        </p:nvPicPr>
        <p:blipFill>
          <a:blip r:embed="rId1"/>
          <a:srcRect l="13559" t="0" r="1355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06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retion is the elimination of waste products &amp; foreign matter from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&amp; osmotic equilibrium are mantained through the process of ex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eliminate-waste.jpg"/>
          <p:cNvPicPr/>
          <p:nvPr/>
        </p:nvPicPr>
        <p:blipFill>
          <a:blip r:embed="rId1"/>
          <a:srcRect l="0" t="-34723" r="0" b="-3472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from breakdown of amino &amp; nucleic acids, and is highly toxic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tic animals can remove ammonia with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PART1.jpg"/>
          <p:cNvPicPr/>
          <p:nvPr/>
        </p:nvPicPr>
        <p:blipFill>
          <a:blip r:embed="rId1"/>
          <a:stretch/>
        </p:blipFill>
        <p:spPr>
          <a:xfrm>
            <a:off x="5651640" y="4640400"/>
            <a:ext cx="274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, some reptiles, most amphibians combine ammonia with bicarbonate to for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uch less toxic &amp; high solu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 and some invertebrates 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ic ac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ess toxic &amp; low solu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xcret1"/>
          <p:cNvPicPr/>
          <p:nvPr/>
        </p:nvPicPr>
        <p:blipFill>
          <a:blip r:embed="rId1"/>
          <a:stretch/>
        </p:blipFill>
        <p:spPr>
          <a:xfrm>
            <a:off x="950760" y="609480"/>
            <a:ext cx="7240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video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9.5)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the-kidney-and-nephr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7-04-25T15:03:16Z</dcterms:modified>
  <cp:revision>268</cp:revision>
  <dc:subject/>
  <dc:title>Maintaining An Internal Balance</dc:title>
</cp:coreProperties>
</file>